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CAA8-B5FC-4F18-896F-DBFF3CF081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B198-F802-4828-ADA5-D08DEBA0C4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899A-3048-417B-BDB9-20CB3CC9F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46ED-3EA8-4C16-9EFF-F90A144585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3435-222C-48DD-99AE-48F804434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8E339-33E6-40F2-918A-482372EA4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813D-3A90-45DC-A1C0-642DFCAE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082-E4A3-46A4-9B18-E90C0F7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45EB-5343-42E3-839E-67F7D7F2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CA05-C081-462E-9259-071CBC826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CC47-BC8E-4AE8-BF69-4EE8C295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193-A56C-4A5C-8397-5310EB0B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145-53C3-4753-8502-86A6992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CB4-6E3D-4EE8-8941-4B836DB9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B24-B395-47B1-AD5A-E259325C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C91-38C0-4888-9306-67604AB2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28F-AFA1-4C5B-AC28-A11C2F90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19F1-E3BF-48D9-A194-B114C935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6BDF-6D7F-43E9-B0FE-2968095843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0" r="79346" b="0"/>
          <a:stretch/>
        </p:blipFill>
        <p:spPr>
          <a:xfrm>
            <a:off x="4191120" y="2209680"/>
            <a:ext cx="1600200" cy="4648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rcRect l="0" t="0" r="75492" b="0"/>
          <a:stretch/>
        </p:blipFill>
        <p:spPr>
          <a:xfrm>
            <a:off x="5867280" y="2209680"/>
            <a:ext cx="1905120" cy="464832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838080" y="2209680"/>
            <a:ext cx="312444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ketchU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IES 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838080" y="2666880"/>
            <a:ext cx="3124440" cy="419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990720" y="2743200"/>
            <a:ext cx="2819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Calibri"/>
              </a:rPr>
              <a:t>Recommended practice for exporting SketchUp models to IES 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4114800" y="2666880"/>
            <a:ext cx="4419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equired reading and watching!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ES VE SketchUp plugin tutorials and help file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Video tutorials for modeling in SketchUp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sketchup.google.com/training/videos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838080" y="2666880"/>
            <a:ext cx="3124440" cy="4191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914400" y="28195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2f2f2"/>
                </a:solidFill>
                <a:uFillTx/>
                <a:latin typeface="Calibri"/>
              </a:rPr>
              <a:t>Model it right </a:t>
            </a:r>
            <a:r>
              <a:rPr b="1" lang="en-US" sz="1600" spc="-1" strike="noStrike">
                <a:solidFill>
                  <a:srgbClr val="f2f2f2"/>
                </a:solidFill>
                <a:latin typeface="Calibri"/>
              </a:rPr>
              <a:t>in Sketch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1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t up Model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609480" y="1828800"/>
            <a:ext cx="7620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Recommended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up the model properties before modeling (Window&gt;Model inf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t up the geographical location and orientation and enable the North angle in model to avoid any confusion in later s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 common unit system for SketchUp and IES to avoid scale iss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2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del it right in SketchU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609480" y="1447920"/>
            <a:ext cx="7620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Recommended ac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2D surfaces for enclosure instead of 3D elem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checking for the closed geometry for every space to be analyzed during the model process to avoid complexity at later st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im and erase all extra lines or surfaces periodic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drawing shading devices which are not rooms, keep the geometry separate from the main building and then move it on the required posi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pply materials after all the geometrical modifications are done to avoid misleading surface proper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keep any element as entity or group. All the elements must be exploded for proper export to 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1"/>
          <p:cNvSpPr/>
          <p:nvPr/>
        </p:nvSpPr>
        <p:spPr>
          <a:xfrm>
            <a:off x="609480" y="762120"/>
            <a:ext cx="342900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ep 3: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eck for roo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6:57:50Z</dcterms:created>
  <dc:creator>k</dc:creator>
  <dc:description/>
  <dc:language>en-US</dc:language>
  <cp:lastModifiedBy>k</cp:lastModifiedBy>
  <dcterms:modified xsi:type="dcterms:W3CDTF">2009-01-12T20:16:37Z</dcterms:modified>
  <cp:revision>21</cp:revision>
  <dc:subject/>
  <dc:title>Slide 1</dc:title>
</cp:coreProperties>
</file>